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96B21-EAAB-4E1D-8745-909A86C1E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C29E5-0713-43D5-B6BD-30F1B7207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36EA5-20C9-49D2-A708-03DAA3A7B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8E5EB-B0C6-4E7C-B65B-9223FF61F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F20AC-3793-4D63-99D3-D73649EB3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F7B79-9078-4461-B16F-887A28735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ADADE-15A4-4209-9C2F-86C88A548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2D1FC-487B-44E0-B9A4-7F80C7109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8F903-8E0D-4CC1-BD81-8E50B1AF8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D4C2F-4B31-47D3-8A34-28711511D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330F8-D25B-41A9-8224-C22AD0D10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BEF03-78E3-4BBB-A577-35BDC471F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201FC-E88D-457D-B71A-6388D4F72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82D4A-416F-4661-B2E8-4CF35B3AA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15AC3-E049-46E4-870B-4CD45605C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4FEB1-CF5D-46B1-B452-CE80ED0B3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BF91D9-C4A5-48FA-9446-7A6EAD611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40493-DE7E-447D-A255-9153039C3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DA4F0-2F70-4B5B-B354-0D30CA83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DE21E-67D5-4530-BE7F-B6E6DB9CC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A3A1A-9E00-4A42-BDE5-F54ED4B0C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42F92-EB23-454D-A2F3-758928A53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AE90A-A27C-4701-8B83-FAC2F5263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65367-0F75-48B7-BFB0-47F8CC192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8D07-36BB-4532-AB0A-4320AA7AA5A1}"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D7A4-670B-4B82-8978-A7770C330205}"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52120"/>
            <a:ext cx="77724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Exploration and Colonization</a:t>
            </a:r>
            <a:endParaRPr b="0" lang="en-US" sz="4400" spc="-1" strike="noStrike">
              <a:solidFill>
                <a:srgbClr val="333333"/>
              </a:solidFill>
              <a:latin typeface="Times New Roman"/>
            </a:endParaRPr>
          </a:p>
        </p:txBody>
      </p:sp>
      <p:sp>
        <p:nvSpPr>
          <p:cNvPr id="93" name="PlaceHolder 2"/>
          <p:cNvSpPr>
            <a:spLocks noGrp="1"/>
          </p:cNvSpPr>
          <p:nvPr>
            <p:ph type="subTitle"/>
          </p:nvPr>
        </p:nvSpPr>
        <p:spPr>
          <a:xfrm>
            <a:off x="1371600" y="37465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uthern Colonies</a:t>
            </a:r>
            <a:endParaRPr b="0" lang="en-US" sz="4400" spc="-1" strike="noStrike">
              <a:solidFill>
                <a:srgbClr val="333333"/>
              </a:solidFill>
              <a:latin typeface="Times New Roman"/>
            </a:endParaRPr>
          </a:p>
        </p:txBody>
      </p:sp>
      <p:sp>
        <p:nvSpPr>
          <p:cNvPr id="111"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Virginia and the other Southern colonies were settled by people seeking economic opportunitie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Virginia “Cavaliers” were English nobility who received large land grants in eastern Virginia from the King of England.</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or English immigrants also came seeking better lives as small farmers or artisans and settled in the Shenandoah Valley or western Virginia.</a:t>
            </a:r>
            <a:endParaRPr b="0" lang="en-US" sz="3200" spc="-1" strike="noStrike">
              <a:solidFill>
                <a:srgbClr val="00264c"/>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91" dur="500"/>
                                        <p:tgtEl>
                                          <p:spTgt spid="1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96" dur="500"/>
                                        <p:tgtEl>
                                          <p:spTgt spid="111">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01"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uthern Colonies</a:t>
            </a:r>
            <a:endParaRPr b="0" lang="en-US" sz="4400" spc="-1" strike="noStrike">
              <a:solidFill>
                <a:srgbClr val="333333"/>
              </a:solidFill>
              <a:latin typeface="Times New Roman"/>
            </a:endParaRPr>
          </a:p>
        </p:txBody>
      </p:sp>
      <p:sp>
        <p:nvSpPr>
          <p:cNvPr id="11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Or were indentured servants who agreed to work on tobacco plantations for a period of time to pay for passage to the New World.</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08"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1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Virginia and the Southern colonies had a social structure based on family status and the ownership of land.</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Large landowners in the eastern lowlands dominated colonial government and society and maintained an allegiance to the Church of England and closer social ties to England than in the other colonies.</a:t>
            </a:r>
            <a:endParaRPr b="0" lang="en-US" sz="3200" spc="-1" strike="noStrike">
              <a:solidFill>
                <a:srgbClr val="00264c"/>
              </a:solidFill>
              <a:latin typeface="Times New Roman"/>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15" dur="500"/>
                                        <p:tgtEl>
                                          <p:spTgt spid="115">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20"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conomic Characteristics</a:t>
            </a:r>
            <a:br>
              <a:rPr sz="4400"/>
            </a:br>
            <a:r>
              <a:rPr b="0" lang="en-US" sz="4400" spc="-1" strike="noStrike">
                <a:solidFill>
                  <a:srgbClr val="333333"/>
                </a:solidFill>
                <a:latin typeface="Times New Roman"/>
              </a:rPr>
              <a:t>of the Colonial Period</a:t>
            </a:r>
            <a:endParaRPr b="0" lang="en-US" sz="4400" spc="-1" strike="noStrike">
              <a:solidFill>
                <a:srgbClr val="333333"/>
              </a:solidFill>
              <a:latin typeface="Times New Roman"/>
            </a:endParaRPr>
          </a:p>
        </p:txBody>
      </p:sp>
      <p:sp>
        <p:nvSpPr>
          <p:cNvPr id="11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Virginia and the other Southern colonies developed economies in the eastern coastal lowlands based on large plantations that grew “cash crops” such as tobacco, rice, and indigo for export to Europ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arther inland, however, in the mountains and valleys of the Appalachian foothills, the economy was based on small-scale subsistence farming, hunting, and trading.</a:t>
            </a:r>
            <a:endParaRPr b="0" lang="en-US" sz="3200" spc="-1" strike="noStrike">
              <a:solidFill>
                <a:srgbClr val="00264c"/>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127" dur="500"/>
                                        <p:tgtEl>
                                          <p:spTgt spid="11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132"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Jamestown</a:t>
            </a:r>
            <a:endParaRPr b="0" lang="en-US" sz="4400" spc="-1" strike="noStrike">
              <a:solidFill>
                <a:srgbClr val="333333"/>
              </a:solidFill>
              <a:latin typeface="Times New Roman"/>
            </a:endParaRPr>
          </a:p>
        </p:txBody>
      </p:sp>
      <p:sp>
        <p:nvSpPr>
          <p:cNvPr id="11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Jamestown, established in 1607 by the Virginia Company of London as a business venture, was the first permanent English settlement in North America.</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Virginia House of Burgesses, established in 1619, was the first elected assembly in the New World. It has continuously operated and is today known as the General Assembly of Virginia.</a:t>
            </a:r>
            <a:endParaRPr b="0" lang="en-US" sz="3200" spc="-1" strike="noStrike">
              <a:solidFill>
                <a:srgbClr val="00264c"/>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39" dur="500"/>
                                        <p:tgtEl>
                                          <p:spTgt spid="119">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44"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2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n the mountains and valleys further inland, however, society was characterized by small subsistence farmers, hunters and traders of Scots-Irish and English descent.</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51"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sential Understandings</a:t>
            </a:r>
            <a:endParaRPr b="0" lang="en-US" sz="4400" spc="-1" strike="noStrike">
              <a:solidFill>
                <a:srgbClr val="333333"/>
              </a:solidFill>
              <a:latin typeface="Times New Roman"/>
            </a:endParaRPr>
          </a:p>
        </p:txBody>
      </p:sp>
      <p:sp>
        <p:nvSpPr>
          <p:cNvPr id="12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Economic institutions in the colonies developed in ways that were either typically European or were distinctively American, as climate, soil conditions, and other natural resources shaped regional economic development.</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African slave trade and the development of a slave labor system in many of the colonies resulted from plantation economies and labor shortages.</a:t>
            </a:r>
            <a:endParaRPr b="0" lang="en-US" sz="2800" spc="-1" strike="noStrike">
              <a:solidFill>
                <a:srgbClr val="00264c"/>
              </a:solidFill>
              <a:latin typeface="Times New Roman"/>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8" dur="500"/>
                                        <p:tgtEl>
                                          <p:spTgt spid="12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6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conomic Characteristics</a:t>
            </a:r>
            <a:br>
              <a:rPr sz="4400"/>
            </a:br>
            <a:r>
              <a:rPr b="0" lang="en-US" sz="4400" spc="-1" strike="noStrike">
                <a:solidFill>
                  <a:srgbClr val="333333"/>
                </a:solidFill>
                <a:latin typeface="Times New Roman"/>
              </a:rPr>
              <a:t>of the Colonial Period</a:t>
            </a:r>
            <a:endParaRPr b="0" lang="en-US" sz="4400" spc="-1" strike="noStrike">
              <a:solidFill>
                <a:srgbClr val="333333"/>
              </a:solidFill>
              <a:latin typeface="Times New Roman"/>
            </a:endParaRPr>
          </a:p>
        </p:txBody>
      </p:sp>
      <p:sp>
        <p:nvSpPr>
          <p:cNvPr id="12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strong belief in private ownership of property and free enterprise characterized colonial life.</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70"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27"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Great Awakening” was a religious movement that swept both Europe and the colonies during the mid-1700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t led to the rapid growth of evangelical religions such as the Methodists and Baptists and challenged the established religious and governmental order. It laid one of the social foundations for the American Revolution</a:t>
            </a:r>
            <a:endParaRPr b="0" lang="en-US" sz="3200" spc="-1" strike="noStrike">
              <a:solidFill>
                <a:srgbClr val="00264c"/>
              </a:solidFill>
              <a:latin typeface="Times New Roman"/>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77" dur="500"/>
                                        <p:tgtEl>
                                          <p:spTgt spid="127">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82"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teractions among Europeans, Africans, and Indians</a:t>
            </a:r>
            <a:endParaRPr b="0" lang="en-US" sz="4400" spc="-1" strike="noStrike">
              <a:solidFill>
                <a:srgbClr val="333333"/>
              </a:solidFill>
              <a:latin typeface="Times New Roman"/>
            </a:endParaRPr>
          </a:p>
        </p:txBody>
      </p:sp>
      <p:sp>
        <p:nvSpPr>
          <p:cNvPr id="129" name="PlaceHolder 2"/>
          <p:cNvSpPr>
            <a:spLocks noGrp="1"/>
          </p:cNvSpPr>
          <p:nvPr>
            <p:ph/>
          </p:nvPr>
        </p:nvSpPr>
        <p:spPr>
          <a:xfrm>
            <a:off x="914040" y="1676520"/>
            <a:ext cx="8001000" cy="48765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explorations and settlements of the English in the American colonies and Spanish in the Caribbean, Central America, and South America, often led to violent conflicts with the American Indians.</a:t>
            </a:r>
            <a:endParaRPr b="0" lang="en-US" sz="2800" spc="-1" strike="noStrike">
              <a:solidFill>
                <a:srgbClr val="00264c"/>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 Indians lost their traditional lands and fell victim to diseases carried from Europe. By contrast, French exploration of Canada did not lead to large-scale immigration from France, and relations with native peoples were often more cooperative.</a:t>
            </a:r>
            <a:endParaRPr b="0" lang="en-US" sz="2800" spc="-1" strike="noStrike">
              <a:solidFill>
                <a:srgbClr val="00264c"/>
              </a:solidFill>
              <a:latin typeface="Times New Roman"/>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89" dur="500"/>
                                        <p:tgtEl>
                                          <p:spTgt spid="129">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94"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pic>
        <p:nvPicPr>
          <p:cNvPr id="95" name="Picture 2" descr="C:\Users\Eric\Pictures\Picture1.jpg"/>
          <p:cNvPicPr/>
          <p:nvPr/>
        </p:nvPicPr>
        <p:blipFill>
          <a:blip r:embed="rId1"/>
          <a:stretch/>
        </p:blipFill>
        <p:spPr>
          <a:xfrm>
            <a:off x="1143000" y="0"/>
            <a:ext cx="7315200" cy="6875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teractions among Europeans, Africans, and Indians</a:t>
            </a:r>
            <a:endParaRPr b="0" lang="en-US" sz="4400" spc="-1" strike="noStrike">
              <a:solidFill>
                <a:srgbClr val="333333"/>
              </a:solidFill>
              <a:latin typeface="Times New Roman"/>
            </a:endParaRPr>
          </a:p>
        </p:txBody>
      </p:sp>
      <p:sp>
        <p:nvSpPr>
          <p:cNvPr id="131"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growth of an agricultural economy based on large landholdings in the Southern colonies and in the Caribbean led to the introduction of slavery in the New World.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first Africans were brought against their will to Jamestown in 1619 to work on tobacco plantations.</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201" dur="500"/>
                                        <p:tgtEl>
                                          <p:spTgt spid="131">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2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 Development of Indentured Servitude and Slavery</a:t>
            </a:r>
            <a:endParaRPr b="0" lang="en-US" sz="4400" spc="-1" strike="noStrike">
              <a:solidFill>
                <a:srgbClr val="333333"/>
              </a:solidFill>
              <a:latin typeface="Times New Roman"/>
            </a:endParaRPr>
          </a:p>
        </p:txBody>
      </p:sp>
      <p:sp>
        <p:nvSpPr>
          <p:cNvPr id="133" name="PlaceHolder 2"/>
          <p:cNvSpPr>
            <a:spLocks noGrp="1"/>
          </p:cNvSpPr>
          <p:nvPr>
            <p:ph/>
          </p:nvPr>
        </p:nvSpPr>
        <p:spPr>
          <a:xfrm>
            <a:off x="914040" y="1600200"/>
            <a:ext cx="8001000" cy="502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growth of a plantation-based agricultural economy in the hot, humid coastal lowlands of the Southern Colonies required cheap labor on a large scal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ome of the labor needs, especially in Virginia, were met by indentured servants, who were often poor persons from Scotland, England, or Ireland who agreed to work on plantations for a period of time in return for their passage from Europe or relief from debts.</a:t>
            </a:r>
            <a:endParaRPr b="0" lang="en-US" sz="3200" spc="-1" strike="noStrike">
              <a:solidFill>
                <a:srgbClr val="00264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13" dur="500"/>
                                        <p:tgtEl>
                                          <p:spTgt spid="133">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218"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troduction of Slavery</a:t>
            </a:r>
            <a:endParaRPr b="0" lang="en-US" sz="4400" spc="-1" strike="noStrike">
              <a:solidFill>
                <a:srgbClr val="333333"/>
              </a:solidFill>
              <a:latin typeface="Times New Roman"/>
            </a:endParaRPr>
          </a:p>
        </p:txBody>
      </p:sp>
      <p:sp>
        <p:nvSpPr>
          <p:cNvPr id="135"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st plantation labor needs eventually came to be filled by the forcible importation of Africans.</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ile some Africans worked as indentured servants, earned their freedom, and lived as free citizens during the Colonial Era, over time larger and larger numbers of enslaved Africans were forcibly brought to the Southern Colonies (the “Middle Passage”)</a:t>
            </a:r>
            <a:endParaRPr b="0" lang="en-US" sz="3200" spc="-1" strike="noStrike">
              <a:solidFill>
                <a:srgbClr val="00264c"/>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audio isNarration="0">
                                      <p:cMediaNode showWhenStopped="1">
                                        <p:cTn/>
                                        <p:tgtEl>
                                          <p:sndTgt r:embed="rId3" name="whoosh.wav"/>
                                        </p:tgtEl>
                                      </p:cMediaNode>
                                    </p:audio>
                                    <p:set>
                                      <p:cBhvr>
                                        <p:cTn id="22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25" dur="500"/>
                                        <p:tgtEl>
                                          <p:spTgt spid="135">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audio isNarration="0">
                                      <p:cMediaNode showWhenStopped="1">
                                        <p:cTn/>
                                        <p:tgtEl>
                                          <p:sndTgt r:embed="rId4" name="whoosh.wav"/>
                                        </p:tgtEl>
                                      </p:cMediaNode>
                                    </p:audio>
                                    <p:set>
                                      <p:cBhvr>
                                        <p:cTn id="229"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230"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ssential Understandings</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xploration and colonization initiated worldwide commercial expansion as agricultural products were exchanged between the Americas and Europe. In time, colonization led to ideas of representative government and religious toleration that over several centuries would inspire similar transformations in other parts of the world.</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haracteristics of Early Exploration and Settlements</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ew England was settled by Puritans seeking freedom from religious persecution in Europ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rmed a “Covenant Community” based on the Mayflower Compact and Puritan religious beliefs and were often intolerant of those not sharing their religion</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y sought economic opportunity and practiced direct democracy through town meetings</a:t>
            </a:r>
            <a:endParaRPr b="0" lang="en-US" sz="3200" spc="-1" strike="noStrike">
              <a:solidFill>
                <a:srgbClr val="00264c"/>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14" dur="500"/>
                                        <p:tgtEl>
                                          <p:spTgt spid="9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9" dur="500"/>
                                        <p:tgtEl>
                                          <p:spTgt spid="9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24"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01" name="PlaceHolder 2"/>
          <p:cNvSpPr>
            <a:spLocks noGrp="1"/>
          </p:cNvSpPr>
          <p:nvPr>
            <p:ph/>
          </p:nvPr>
        </p:nvSpPr>
        <p:spPr>
          <a:xfrm>
            <a:off x="685800" y="1905120"/>
            <a:ext cx="7772400" cy="44193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ew England’s colonial society was based on religious standing.</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Puritans grew increasingly intolerant of dissenters who challenged the Puritan’s belief in the connection between religion and government.</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hode Island was founded by dissenters fleeing persecution by Puritans in Massachusetts.</a:t>
            </a:r>
            <a:endParaRPr b="0" lang="en-US" sz="3200" spc="-1" strike="noStrike">
              <a:solidFill>
                <a:srgbClr val="00264c"/>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31" dur="500"/>
                                        <p:tgtEl>
                                          <p:spTgt spid="10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36" dur="500"/>
                                        <p:tgtEl>
                                          <p:spTgt spid="10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41"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conomic Characteristics</a:t>
            </a:r>
            <a:br>
              <a:rPr sz="4400"/>
            </a:br>
            <a:r>
              <a:rPr b="0" lang="en-US" sz="4400" spc="-1" strike="noStrike">
                <a:solidFill>
                  <a:srgbClr val="333333"/>
                </a:solidFill>
                <a:latin typeface="Times New Roman"/>
              </a:rPr>
              <a:t>of the Colonial Period</a:t>
            </a:r>
            <a:endParaRPr b="0" lang="en-US" sz="4400" spc="-1" strike="noStrike">
              <a:solidFill>
                <a:srgbClr val="333333"/>
              </a:solidFill>
              <a:latin typeface="Times New Roman"/>
            </a:endParaRPr>
          </a:p>
        </p:txBody>
      </p:sp>
      <p:sp>
        <p:nvSpPr>
          <p:cNvPr id="103"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New England colonies developed an economy based on shipbuilding, fishing, lumbering, small-scale subsistence farming, and eventually, manufacturing.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colonies prospered, reflecting the Puritans’ strong belief in the values of hard work and thrift.</a:t>
            </a:r>
            <a:endParaRPr b="0" lang="en-US" sz="3200" spc="-1" strike="noStrike">
              <a:solidFill>
                <a:srgbClr val="00264c"/>
              </a:solidFill>
              <a:latin typeface="Times New Roman"/>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48" dur="500"/>
                                        <p:tgtEl>
                                          <p:spTgt spid="10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53"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haracteristics of Early Exploration and Settlements</a:t>
            </a:r>
            <a:endParaRPr b="0" lang="en-US" sz="4400" spc="-1" strike="noStrike">
              <a:solidFill>
                <a:srgbClr val="333333"/>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Middle Atlantic region was settled chiefly by English, Dutch, and German-speaking immigrants seeking religious freedom and economic opportunity.</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0"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conomic Characteristics</a:t>
            </a:r>
            <a:br>
              <a:rPr sz="4400"/>
            </a:br>
            <a:r>
              <a:rPr b="0" lang="en-US" sz="4400" spc="-1" strike="noStrike">
                <a:solidFill>
                  <a:srgbClr val="333333"/>
                </a:solidFill>
                <a:latin typeface="Times New Roman"/>
              </a:rPr>
              <a:t>of the Colonial Period</a:t>
            </a:r>
            <a:endParaRPr b="0" lang="en-US" sz="4400" spc="-1" strike="noStrike">
              <a:solidFill>
                <a:srgbClr val="333333"/>
              </a:solidFill>
              <a:latin typeface="Times New Roman"/>
            </a:endParaRPr>
          </a:p>
        </p:txBody>
      </p:sp>
      <p:sp>
        <p:nvSpPr>
          <p:cNvPr id="10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Middle Colonies of New York, New Jersey, Pennsylvania, Maryland, and Delaware developed economies based on shipbuilding, small-scale farming, and trading.</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ities such as New York, Philadelphia, and Baltimore began to grow as seaports and commercial centers.</a:t>
            </a:r>
            <a:endParaRPr b="0" lang="en-US" sz="3200" spc="-1" strike="noStrike">
              <a:solidFill>
                <a:srgbClr val="00264c"/>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67" dur="500"/>
                                        <p:tgtEl>
                                          <p:spTgt spid="107">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72"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ocial Characteristics</a:t>
            </a:r>
            <a:br>
              <a:rPr sz="4400"/>
            </a:br>
            <a:r>
              <a:rPr b="0" lang="en-US" sz="4400" spc="-1" strike="noStrike">
                <a:solidFill>
                  <a:srgbClr val="333333"/>
                </a:solidFill>
                <a:latin typeface="Times New Roman"/>
              </a:rPr>
              <a:t>of the Colonies</a:t>
            </a:r>
            <a:endParaRPr b="0" lang="en-US" sz="4400" spc="-1" strike="noStrike">
              <a:solidFill>
                <a:srgbClr val="333333"/>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 Middle Colonies were home to multiple religious groups, including the Quakers in Pennsylvania and Catholics in Maryland, who generally believed in religious toleranc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se colonies had more flexible social structures and began to develop a middle class of skilled artisans, entrepreneurs (business owners), and small farmers.</a:t>
            </a:r>
            <a:endParaRPr b="0" lang="en-US" sz="3200" spc="-1" strike="noStrike">
              <a:solidFill>
                <a:srgbClr val="00264c"/>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79" dur="500"/>
                                        <p:tgtEl>
                                          <p:spTgt spid="1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84"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6T00:21:16Z</dcterms:created>
  <dc:creator>Steven Shockley</dc:creator>
  <dc:description/>
  <dc:language>en-US</dc:language>
  <cp:lastModifiedBy>Eric Rossi</cp:lastModifiedBy>
  <dcterms:modified xsi:type="dcterms:W3CDTF">2010-05-31T23:32:33Z</dcterms:modified>
  <cp:revision>25</cp:revision>
  <dc:subject/>
  <dc:title>US History</dc:title>
</cp:coreProperties>
</file>